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7CD2-D708-46D0-83A8-31F74A12918E}" type="datetime">
              <a:rPr b="0" lang="zh-CN" sz="1200" spc="-1" strike="noStrike">
                <a:solidFill>
                  <a:srgbClr val="000000"/>
                </a:solidFill>
                <a:latin typeface="Arial"/>
                <a:ea typeface="宋体"/>
              </a:rPr>
              <a:t>26/7/30</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828D-74B6-4E72-8DBA-0939B483822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45F2-C24A-49A5-9AF1-160E83B096A6}"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098B-19DB-4CA7-A19B-96935D5C3A83}"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5B65-B598-4C61-980C-9F8C61F21BEF}"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7EE2B-7D7A-4C2D-82D1-42716D575072}"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2800-898D-4A3A-9C6D-8C1FE9DF7B98}"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3E0B-D457-4DE8-8C02-CDCF54161A1B}"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0AAE-E2C1-447E-AC08-E2FC65274612}"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AB0AF-F7C5-4422-B8D6-90FAE897C435}"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A933-87F0-487E-B4FF-6C8394BE6019}"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0ECC8-6B7D-470E-869D-3306EB7F4E3C}"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7C9C26-8AC5-46B0-9872-ADC2C9853A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A97DBC-305E-4B38-9224-84D03FE980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92147D4-D138-4A83-BDF2-FCF57C1740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EE993E7-22E9-4D55-AF8E-591BE7AF56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0197C1-9520-4FAF-8931-95E9210820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BA4314-1701-4E6B-A9A6-9F62C5C062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E50C9C-8646-426A-9AAB-84225A5394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A80572-C2D1-44DE-BE75-B86569EF87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25E99F-6852-4BF7-8753-9D7107B908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FF7C59-463E-436F-BAA0-E92B14D46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3235D9-3DB7-4F22-878D-49BBBDFF1A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CF81D1-02C5-429B-9C2E-9AAD59EAF1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F60EFE-8043-48A2-8491-D9700CF2FF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64E2C0-B2AF-4DDD-BBE9-EDF3607E64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3C21E8-0AED-48D2-A586-7828F63FD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161D77-6DC2-4F6F-9C8A-8244C0AEB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1CE391-9A93-46C1-AEE8-9B672A81A7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3A7583-9143-4C5F-8E4F-3E3FFF8F2D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DA3247-095E-4197-9A5A-1994AA04FC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4607A51-F194-467A-AF48-77A5C1967E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79DB0B4-04CF-4021-B6DA-A37827BB98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38723F-870D-420E-AC77-9EA7080B56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01C129-5CCD-402B-8D73-82D781C53E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A86262-8740-4D33-A9C5-89B43478B6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0899-7323-4D97-8CDF-15F6F495921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64542-5362-46A0-AF2C-25153DBD82E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